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DDC6-B21B-488F-91A0-750BB1E30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6672-038C-4CCA-AEFF-802D96D77F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all of your documents to the items abo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BEA-787D-4CE8-AC65-F567B4A5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CC3-B9A8-43D0-906A-55C59EAE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3026-521C-4AF3-9A30-3F9703E4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440-210C-4271-9371-56644451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E96C-1505-4C1B-82D6-C5BE8504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2B68-FCAD-4CC5-AA9C-3773022C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47BF-580A-4057-A07A-FE24931B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AED5-7050-4043-90EB-3A38A7CD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DE25-99CC-473B-B32A-C9E9F31B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3F55-211D-4DC2-8E59-7EB407D7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8848-5191-44A1-BFEE-30A012AB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99B-D0DE-45AD-9013-337609DF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4969-E42E-46C6-AE3F-80E2B912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33E8-F395-4367-B87F-6A9CF4E0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84D3-2487-48D4-BE22-F7683A29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111A-C7E2-4AC0-857B-1F8E2A65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9E23-3E0B-41D1-984F-CFE95DBE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580-0FA5-43F8-9F0C-D4B1490E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C612-2698-494B-BC45-4DFD996C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09C4-F833-4234-8FB7-33542C7C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9BC-A07C-43B9-88DE-3B481B82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E75-7B0C-415C-82E6-D7EFB92C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C0B3-6B3A-4278-84F1-567B21B0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092-0E5A-4F10-BBF7-994276B4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7351-CC56-4CCD-A36D-E5A9A2929B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08BA-4F10-4343-B5A5-DC62F40114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ixonlibrary.blogspot.com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oheisel@staunton.k12.va.us?subject=We%20Are%20All%20Authors%20presentation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We Are All Author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ile Heis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uage Arts in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32"/>
          <p:cNvGrpSpPr/>
          <p:nvPr/>
        </p:nvGrpSpPr>
        <p:grpSpPr>
          <a:xfrm>
            <a:off x="990720" y="2286000"/>
            <a:ext cx="7086600" cy="1974960"/>
            <a:chOff x="990720" y="2286000"/>
            <a:chExt cx="7086600" cy="1974960"/>
          </a:xfrm>
        </p:grpSpPr>
        <p:pic>
          <p:nvPicPr>
            <p:cNvPr id="108" name="Picture 27" descr="MCj04382190000[1]"/>
            <p:cNvPicPr/>
            <p:nvPr/>
          </p:nvPicPr>
          <p:blipFill>
            <a:blip r:embed="rId1"/>
            <a:stretch/>
          </p:blipFill>
          <p:spPr>
            <a:xfrm>
              <a:off x="6416640" y="2362320"/>
              <a:ext cx="1660680" cy="18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3" descr="MCj04382290000[1]"/>
            <p:cNvPicPr/>
            <p:nvPr/>
          </p:nvPicPr>
          <p:blipFill>
            <a:blip r:embed="rId2"/>
            <a:stretch/>
          </p:blipFill>
          <p:spPr>
            <a:xfrm>
              <a:off x="2362320" y="2286000"/>
              <a:ext cx="289548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4" descr="MCj04382310000[1]"/>
            <p:cNvPicPr/>
            <p:nvPr/>
          </p:nvPicPr>
          <p:blipFill>
            <a:blip r:embed="rId3"/>
            <a:stretch/>
          </p:blipFill>
          <p:spPr>
            <a:xfrm>
              <a:off x="5181840" y="2362320"/>
              <a:ext cx="1501560" cy="18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5" descr="MCj04382390000[1]"/>
            <p:cNvPicPr/>
            <p:nvPr/>
          </p:nvPicPr>
          <p:blipFill>
            <a:blip r:embed="rId4"/>
            <a:stretch/>
          </p:blipFill>
          <p:spPr>
            <a:xfrm>
              <a:off x="990720" y="2286000"/>
              <a:ext cx="183204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Text Box 33"/>
          <p:cNvSpPr/>
          <p:nvPr/>
        </p:nvSpPr>
        <p:spPr>
          <a:xfrm>
            <a:off x="7086960" y="4419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oft Clip 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ners work together to choose 3 authors they would like to research. 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udents self-assess their collaboration skills individually and compare to their partner’s assessment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85800" y="22860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re-Assessment of Team Collabor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5327640" y="6541920"/>
            <a:ext cx="27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am Collaboration Assess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Object 6"/>
          <p:cNvGraphicFramePr/>
          <p:nvPr/>
        </p:nvGraphicFramePr>
        <p:xfrm>
          <a:off x="5410080" y="594360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59436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blem-Solving/ Pati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uring all project work, students will flip a red/green card to the red side when they need help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ents continue to work until help arriv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students solve the problem (before or after help arrives), they flip their red card back to the green s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search Skil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search identified web sites to find personal characteristics about one of the three authors they ch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read and interpret nonfiction biographical information to identify any of the author’s characteristics that might also be true for a student in their cla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blog relevant information, using their own words and citing the web address of their 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277920"/>
            <a:ext cx="198108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e the sample student blog at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dixonlibrary.blogspot.com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rcRect l="24375" t="16001" r="23752" b="10001"/>
          <a:stretch/>
        </p:blipFill>
        <p:spPr>
          <a:xfrm>
            <a:off x="2362320" y="762120"/>
            <a:ext cx="6324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logging Skil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should read and respond to the blogs of other stud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should comment in the blog when they see that the author they are researching is similar to the author another group is researc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students have posted something about their author, they can use the citation links from other students to read about other auth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amwork Skil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end of the blogging session, students will individually self-assess the team’s collaboration sk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use the same form they used in the pre-assessment of team col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tudent responds &amp; then compares his or her response to partner’s response.  Discuss similarities &amp; differ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175000" y="6095880"/>
            <a:ext cx="27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am Collaboration Assess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Object 7"/>
          <p:cNvGraphicFramePr/>
          <p:nvPr/>
        </p:nvGraphicFramePr>
        <p:xfrm>
          <a:off x="4952880" y="5638680"/>
          <a:ext cx="990720" cy="7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5638680"/>
                    <a:ext cx="99072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munication Skil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teams also self-assess the content of their blog about the characteristics of the author they research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uses the same form to assess the content of their blo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ween class sessions, teacher and students will meet to compare the teacher and student assessments and develop plan of improv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176080" y="5638680"/>
            <a:ext cx="233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log Assessment Check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4267080" y="533412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53341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ilding Communication Skil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teams will repeat this entire cycle of research, blogging, assessing, and conferencing three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the second and third conference, teacher and students will compare assessments to previous assessments to encourage students to be accountable for self- improv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327640" y="5791320"/>
            <a:ext cx="229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log Assessment check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4267080" y="533412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53341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ganizing Inform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tudent creates their own a graphic organizer comparing characteristics of all the famous authors researched by the entire class to them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assess their graphic organizer using a checklist.  Teacher will assess using the same checklist.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783840" y="59436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nal Assessment Check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Object 8"/>
          <p:cNvGraphicFramePr/>
          <p:nvPr/>
        </p:nvGraphicFramePr>
        <p:xfrm>
          <a:off x="6172200" y="525780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52578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8991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ple Student Graphic Organizer &amp; Teacher Assess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16252" t="22762" r="21877" b="10001"/>
          <a:stretch/>
        </p:blipFill>
        <p:spPr>
          <a:xfrm>
            <a:off x="304920" y="1828800"/>
            <a:ext cx="7404120" cy="5029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rcRect l="51463" t="26003" r="10588" b="43601"/>
          <a:stretch/>
        </p:blipFill>
        <p:spPr>
          <a:xfrm>
            <a:off x="5334120" y="4876920"/>
            <a:ext cx="3652560" cy="1828800"/>
          </a:xfrm>
          <a:prstGeom prst="rect">
            <a:avLst/>
          </a:prstGeom>
          <a:ln w="1260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38080" y="1066680"/>
          <a:ext cx="7543800" cy="5516640"/>
        </p:xfrm>
        <a:graphic>
          <a:graphicData uri="http://schemas.openxmlformats.org/drawingml/2006/table">
            <a:tbl>
              <a:tblPr/>
              <a:tblGrid>
                <a:gridCol w="2514600"/>
                <a:gridCol w="50292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ssential Question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you be famous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t Question(s)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the similarities and differences between the personalities and preferences of famous authors, illustrators, and of our classmates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 is it necessary to cite the source of our information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tent Question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reliable is the information on the internet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I summarize information and write it in my own word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can I organize and plan for writing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I work politely and effectively with other student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61"/>
          <p:cNvSpPr/>
          <p:nvPr/>
        </p:nvSpPr>
        <p:spPr>
          <a:xfrm>
            <a:off x="838080" y="0"/>
            <a:ext cx="7620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We Are All Auth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riting Skil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tudent uses their graphic organizer to write a paragraph explain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y I can become a famous author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assess their paragraph using a checklist.  Teacher will the paragraph assess using the same checkl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783840" y="59436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nal Assessment Check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Object 6"/>
          <p:cNvGraphicFramePr/>
          <p:nvPr/>
        </p:nvGraphicFramePr>
        <p:xfrm>
          <a:off x="5791320" y="579132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7913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ple Student Paragraph &amp; Teacher Assess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rcRect l="51463" t="55138" r="10588" b="17003"/>
          <a:stretch/>
        </p:blipFill>
        <p:spPr>
          <a:xfrm>
            <a:off x="5181480" y="2819520"/>
            <a:ext cx="3652920" cy="1676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rcRect l="0" t="26003" r="50917" b="17003"/>
          <a:stretch/>
        </p:blipFill>
        <p:spPr>
          <a:xfrm>
            <a:off x="304920" y="2057400"/>
            <a:ext cx="4724280" cy="3429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3"/>
          <a:srcRect l="51463" t="26003" r="10588" b="66405"/>
          <a:stretch/>
        </p:blipFill>
        <p:spPr>
          <a:xfrm>
            <a:off x="5181480" y="2209680"/>
            <a:ext cx="3652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685800" y="22860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Final Assessment of Information Literacy 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ents answer the pre-assessment question again with a written respon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you trust all information on the internet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do you need to “cite” your source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323680" y="6019920"/>
            <a:ext cx="34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ernet Reliability Assessment Check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4343400" y="579132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57913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 rot="10800000">
            <a:off x="0" y="0"/>
            <a:ext cx="11430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Sample Student Response &amp; Teacher Assessment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rcRect l="0" t="26003" r="51876" b="28001"/>
          <a:stretch/>
        </p:blipFill>
        <p:spPr>
          <a:xfrm>
            <a:off x="1066680" y="228600"/>
            <a:ext cx="5257800" cy="3141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rcRect l="50627" t="26003" r="2498" b="30000"/>
          <a:stretch/>
        </p:blipFill>
        <p:spPr>
          <a:xfrm>
            <a:off x="3429000" y="3505320"/>
            <a:ext cx="5715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commodations for Differentiated Instru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reading below grade level will be paired with a student who reads at or above grade-level, encouraging the capable reader to read the information aloud to their part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ppropriate, videos of author interviews on web sites will be recommended to students, so they can listen to the author tell about them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commodations for 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vanced Learn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who are advanced learners will be paired up together and encouraged to make deeper connections between one favorite author and themselv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find very specific details that demonstrate a high level of understanding, I will email their comments to the author they chose as the most similar to them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tle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commodations for Different Learning P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80880" y="1905120"/>
            <a:ext cx="838224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uters and the internet offers students opportunities for all types of learners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Visua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learners will see images on the computer scree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Auditor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learners will enjoy talking with their partners and working as a team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Kinesthetic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learners will enjoy using the keyboard to blog, an uncommon activity for beginning third grade studen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itle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commodations for Different Types of Think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380880" y="1905120"/>
            <a:ext cx="83822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Left brain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arners will enjoy all the checklists, procedures, and multiple steps that guide students through the projec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Right brain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arners will enjoy blogging, scanning randomly around websites, and the open-endedness of finding characteristics of famous author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tle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commodations for Different Types of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457200" y="1905120"/>
            <a:ext cx="815328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hough many, but not all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oward Gardiner’s Multiple Intellig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utilized in this project, the overall goal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Are All Autho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for students to understand that our world is filled with diversity. My messag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Everyone has the potential to be great!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ank you for viewing my presentation.  Comments are always appreciated.  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dile Heisel, Librarian at Dixon</a:t>
            </a:r>
            <a:br>
              <a:rPr sz="4400"/>
            </a:b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oheisel@staunton.k12.va.u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ork with a partner to research information about the interests and characteristics of their favorite auth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blog to each other to share what they learn, citing their sour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compare the information they learn about their author to other groups’ authors and to themselv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out this process, students will learn about reliability of internet resources, reasons to cite source of information, and how to blo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English SOL 3.6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student will continue to read and demonstrate comprehension of nonfic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ake connections between previous experiences and reading select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sk and answer questions about what is re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raw conclu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rganize information and events logicall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ummarize major points found in nonfiction material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mpare and contrast the lives of two persons as described in biographies and/or autobiograph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21</a:t>
            </a:r>
            <a:r>
              <a:rPr b="0" lang="en-US" sz="4400" spc="-1" strike="noStrike" baseline="30000">
                <a:solidFill>
                  <a:srgbClr val="b2b2b2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Century Skil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cation and Col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culating thoughts and ideas clearly and effectively through wri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ing ability to work effectively with diverse tea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rcising flexibility and willingness to be helpful in making necessary compromises to accomplish a common go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ming shared responsibility for collaborative 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21</a:t>
            </a:r>
            <a:r>
              <a:rPr b="0" lang="en-US" sz="4400" spc="-1" strike="noStrike" baseline="30000">
                <a:solidFill>
                  <a:srgbClr val="b2b2b2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Century Skil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Lite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essing a fundamental understanding of the ethical/legal issues surrounding the access and use of informa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21</a:t>
            </a:r>
            <a:r>
              <a:rPr b="0" lang="en-US" sz="4400" spc="-1" strike="noStrike" baseline="30000">
                <a:solidFill>
                  <a:srgbClr val="b2b2b2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Century Skil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CT (Information, Communications and Technology) Lite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digital technology, communication tools and/or networks appropriately to access, manage, integrate, evaluate, and create information in order to function in a knowledge econom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echnology as a tool to research, organize, evaluate and communicate information, and the possession of a fundamental understanding of the ethical/legal issues surrounding the access and use of inform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Learning Objectives for Student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nonfiction information from a web page, locate relevant information, communicate to others, analyze facts, draw conclusion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ideas through writing using appropriate spelling, grammar, &amp; punct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cooperatively with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that not all information on the internet is reli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e source of information, write using one’s own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914400" y="4572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re-Assessment of Information Litera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2057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ents individually write to answer these questions: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3504960"/>
            <a:ext cx="807732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you think you can trust all information on the interne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do you think I might want you to “cite” your source?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define “cite” for them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5322600" y="6491160"/>
            <a:ext cx="34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ernet Reliability Assessment checkli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Object 7"/>
          <p:cNvGraphicFramePr/>
          <p:nvPr/>
        </p:nvGraphicFramePr>
        <p:xfrm>
          <a:off x="5334120" y="5867280"/>
          <a:ext cx="914400" cy="7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58672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6:31:32Z</dcterms:created>
  <dc:creator>Odile Heisel</dc:creator>
  <dc:description/>
  <dc:language>en-US</dc:language>
  <cp:lastModifiedBy>oheisel</cp:lastModifiedBy>
  <dcterms:modified xsi:type="dcterms:W3CDTF">2009-04-19T21:17:17Z</dcterms:modified>
  <cp:revision>35</cp:revision>
  <dc:subject/>
  <dc:title>We Are All Authors</dc:title>
</cp:coreProperties>
</file>